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8DB2-4A4A-446A-9697-E10DA68BC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FDCF-0CF7-4E7B-91B5-11BE62B7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21D7-2F07-407E-B010-7DE25ABE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895B-80CE-4809-97F4-8726F75A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75B4-D079-46A0-B7B4-62395D7D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1C07-A48D-4580-9E2D-98D9FEE8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A71-9058-4959-A784-81CCEE26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42C-322C-4232-ABE2-EC0051C8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36B-E06C-49C4-A66F-0B3F4A62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A06-C735-45FD-A24D-92827EFE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F3E9-541A-478D-9A86-5F0F9127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9607-B002-423B-83F0-B9279968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2720-B63C-4B33-9B8C-6E8EF1D6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2D01-DD4B-4C85-8043-B42DB35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4818-C1F4-4794-9C47-C908FAA8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F29E-3D20-4C1C-8D16-0FBD9516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09FE-6AC3-4450-9FA2-988EE532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576-2C04-4BCA-B836-3EA36CEC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5E70-27E5-4CB7-BF5B-426DEB2D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42CE-F86D-45F1-9012-878FB42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9AA2-2988-43A3-9AAC-003BD163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116B-E31D-4D9B-B837-5A8F66E2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57A3-29C0-4F2F-87DB-86C6298A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601-F728-4228-90A4-22281C03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53C-ACB1-4B59-BFC7-22E55789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C8C-DC71-40FE-A883-2A79710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AB9-7E2C-490E-B822-D8745F97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83A-A73D-4FA5-807F-2493709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AFF-7A19-4C15-AB35-B9AC80D7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782-6725-432E-9C30-803425D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E93-20BD-4AD1-8117-AC29874256E9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5A9E-3C93-45B8-B14C-0119C383B3AA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Cum se numește 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“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țara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”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 tuturor posibilitățilo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3657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Cum ar fi viaţa noastră făr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utiliza internetul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ce aju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 internetu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realiza si noi o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gina de prezentare pe interne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 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ştim acum despre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 şi aplicaţiile acestui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7" descr="internet"/>
          <p:cNvPicPr/>
          <p:nvPr/>
        </p:nvPicPr>
        <p:blipFill>
          <a:blip r:embed="rId1"/>
          <a:stretch/>
        </p:blipFill>
        <p:spPr>
          <a:xfrm>
            <a:off x="2133720" y="2585880"/>
            <a:ext cx="419076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Enumeraţi 7 avantaje ale utilizarii internetulu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umera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ţi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rowsere web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Verdana"/>
              </a:rPr>
              <a:t>Ce tip de rețea este Internet-u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-faceți o descriere în funcție de criteriile de clasificare cunosc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3:15Z</dcterms:created>
  <dc:creator>Luigi</dc:creator>
  <dc:description/>
  <dc:language>en-US</dc:language>
  <cp:lastModifiedBy>user</cp:lastModifiedBy>
  <dcterms:modified xsi:type="dcterms:W3CDTF">2010-02-28T08:04:57Z</dcterms:modified>
  <cp:revision>17</cp:revision>
  <dc:subject/>
  <dc:title>Evaluare initiala</dc:title>
</cp:coreProperties>
</file>