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5A21-13BF-4592-A80D-C091E5BB5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7D25-4AE3-4E05-9BD7-0D0828782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5AF8-19FE-4F8F-953F-34E5A9B87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607E-2535-430C-8236-C946C0944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8538-3879-4ECF-84C0-D22BCD0BD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8BA4-96B8-42CF-A6F5-02816591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E76-5B94-461F-8523-0506A36B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C40-F4BC-41F3-9111-198213BC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804-416C-4363-A805-2A36BA69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97A-E383-4CAA-91F3-C67E32FF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89AA-9C6D-4F8F-818D-6456B074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7A7E-1D30-40F2-A395-6EDB5D29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D2AA-745C-41FD-A091-4E9EFD5A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A558-9F6F-42C0-BC0A-5AFED5F2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4324-1728-4AD1-9DF9-7243B52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AFE8-0C03-4C9D-ADA1-BB57E05B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5085-E896-4311-8401-9C43DC8D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0E9-CE5F-4CFE-BC86-DD33B4E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CCAE-84F6-4572-9A08-6D725C8D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9A98-D3E2-452D-AC56-3951053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DF33-28BE-4144-B067-0FA56D76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7A3D-12AB-47D6-9FE6-2A764128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3737-880C-44EA-B9E0-6DA26A54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DC2-9143-4D45-849B-CC099031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006-1770-4280-BED2-D0D86082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C1A-9119-45AD-B9AA-110E0539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1DB-CD41-4A8A-93A1-CCEE3EC3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9A7-35C4-4876-B463-C6F75901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CC2-0ACD-4F11-A1DA-4A9B5E7F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01F-A3DE-4F42-89C9-915395DB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1DA2-ADD6-4D9E-8E57-CCDBFE804365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93FE-7AF5-436A-B266-3A5C48714525}" type="slidenum">
              <a:rPr b="0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743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Cum se numește 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“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țara</a:t>
            </a:r>
            <a:r>
              <a:rPr b="1" lang="en-US" sz="3800" spc="-1" strike="noStrike">
                <a:solidFill>
                  <a:srgbClr val="48596a"/>
                </a:solidFill>
                <a:latin typeface="Verdana"/>
              </a:rPr>
              <a:t>”</a:t>
            </a:r>
            <a:r>
              <a:rPr b="1" lang="ro-RO" sz="3800" spc="-1" strike="noStrike">
                <a:solidFill>
                  <a:srgbClr val="48596a"/>
                </a:solidFill>
                <a:latin typeface="Verdana"/>
              </a:rPr>
              <a:t> tuturor posibilitățilo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36576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Cum ar fi viaţa noastră fără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utiliza internetul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ce ajut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ă internetul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um putem realiza si noi o</a:t>
            </a:r>
            <a:r>
              <a:rPr b="1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gina de prezentare pe internet</a:t>
            </a:r>
            <a:r>
              <a:rPr b="0" lang="ro-RO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 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ştim acum despre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ro-RO" sz="4000" spc="-1" strike="noStrike">
                <a:solidFill>
                  <a:srgbClr val="000000"/>
                </a:solidFill>
                <a:latin typeface="Verdana"/>
              </a:rPr>
              <a:t> şi aplicaţiile acestui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7" descr="internet"/>
          <p:cNvPicPr/>
          <p:nvPr/>
        </p:nvPicPr>
        <p:blipFill>
          <a:blip r:embed="rId1"/>
          <a:stretch/>
        </p:blipFill>
        <p:spPr>
          <a:xfrm>
            <a:off x="2133720" y="2585880"/>
            <a:ext cx="419076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Enumeraţi 7 avantaje ale utilizarii internetului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........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umera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ţi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rowsere web</a:t>
            </a:r>
            <a:r>
              <a:rPr b="0" lang="ro-RO" sz="3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……………………………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03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800" spc="-1" strike="noStrike">
                <a:solidFill>
                  <a:srgbClr val="000000"/>
                </a:solidFill>
                <a:latin typeface="Verdana"/>
              </a:rPr>
              <a:t>Ce tip de rețea este Internet-ul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-faceți o descriere în funcție de criteriile de clasificare cunosc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3:15Z</dcterms:created>
  <dc:creator>Luigi</dc:creator>
  <dc:description/>
  <dc:language>en-US</dc:language>
  <cp:lastModifiedBy>user</cp:lastModifiedBy>
  <dcterms:modified xsi:type="dcterms:W3CDTF">2010-02-28T08:04:57Z</dcterms:modified>
  <cp:revision>17</cp:revision>
  <dc:subject/>
  <dc:title>Evaluare initiala</dc:title>
</cp:coreProperties>
</file>