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A92D-33DE-4ABE-9213-7195179C8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DC59-6E2A-477A-AA71-9AE0478B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22C0-ADEA-4278-92F2-4E4032A8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D5A-1A26-4E3F-81DC-92605CDC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B9AB-9873-4165-BA60-4C580564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9C3-C8DA-44E3-9325-F8658F582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941-B754-4276-9415-58688478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C6BF-7651-4845-B65A-7B9BBF4E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674-A9B6-4E2E-8615-18361FCF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B61-16ED-49BB-A34C-80B85864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7255-216C-4FFB-BC90-6B3770C5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DD11-BD44-4276-8B73-027BC678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8248-B401-49BB-AB13-F949A93E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5380-20F7-4D29-BC72-F52E13D5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E814-52AA-4518-91DD-6F2E351B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69C1-7118-4792-B532-7FC794E1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AF4F-9F3E-4C2D-AAB5-3BDDE1A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BE4-554B-4BD2-A395-5FC6997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C2BC-395A-4420-8642-B5C391E0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1566-A73D-49DD-ABDC-F097EE97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17B9-AA9C-45E0-98DC-A887E639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5723-4F46-4670-ABCF-01D6F9D8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E8B3-A76B-464C-A793-2F54699E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7E9-0578-4117-AF1C-7972BE81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073-857D-4986-ACBC-27F5FA00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818-401E-43D1-9197-3776421B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26D-428B-44B2-8102-28E9D7A5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4C4-5783-43FE-A9B4-FFFFB50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24C-8900-4FCD-B2D5-45E603A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AFB-BF8D-43F0-9B21-2F137A17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3BD-C031-4641-959D-3522ACE5713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7A7E-BF34-44D4-819C-5E204DE03CED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Cum se numește 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“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țara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”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 tuturor posibilitățilo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3657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Cum ar fi viaţa noastră făr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utiliza internetu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ce aju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internetu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realiza si noi o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a de prezentare pe interne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 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ştim acum despre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 şi aplicaţiile acestui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internet"/>
          <p:cNvPicPr/>
          <p:nvPr/>
        </p:nvPicPr>
        <p:blipFill>
          <a:blip r:embed="rId1"/>
          <a:stretch/>
        </p:blipFill>
        <p:spPr>
          <a:xfrm>
            <a:off x="2133720" y="2585880"/>
            <a:ext cx="41907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Enumeraţi 7 avantaje ale utilizarii internetulu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umera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ţi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rowsere web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Verdana"/>
              </a:rPr>
              <a:t>Ce tip de rețea este Internet-u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-faceți o descriere în funcție de criteriile de clasificare cunosc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Luigi</dc:creator>
  <dc:description/>
  <dc:language>en-US</dc:language>
  <cp:lastModifiedBy>user</cp:lastModifiedBy>
  <dcterms:modified xsi:type="dcterms:W3CDTF">2010-02-28T08:04:57Z</dcterms:modified>
  <cp:revision>17</cp:revision>
  <dc:subject/>
  <dc:title>Evaluare initiala</dc:title>
</cp:coreProperties>
</file>