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BFE1-C760-4580-8923-4138B5023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2958-3781-4D6E-A781-AAAD51CA3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B85C-AD03-42E4-94F8-D6829BCA6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56F9-0B92-4B4E-8199-51533C51A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97B5-BFB0-4589-9098-EC44BC0C6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668E-16AA-4C64-93E1-822229235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601-07F9-452F-971B-972CC922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6F3-86B2-4298-A561-CA87EC93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E46-9305-4292-821E-78B0CC99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9EE-2048-4D0E-A696-D52D7606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77F5-DA15-4150-ABDA-FFF29292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FF60-1833-4671-ACAE-9470B906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BB10-E590-4637-9EE3-CA7374E9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A580-7787-4EC1-88FC-404C5885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AEFC-80C8-49F8-9ABA-EAA09942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25A7-448E-47C0-8B5A-2D4FA0BE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5276-88B7-4751-8B7D-48121612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9F9-1D8E-4C77-8DBE-BC096ECF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E87A-8175-46B5-BE89-1955EEE8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6618-7973-457C-8412-481D316C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C89C-E265-4E4C-BF5F-DB3CB94E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8AD7-391B-459B-B977-AD18447E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182C-7D4A-4B46-A2F1-FEB51E7A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615E-F674-46BE-ACDD-CBE3B72F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DD9-CB7A-45D4-9298-948FD8FA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271-D4F8-48A8-9AB2-1CFF5881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F5C-EC45-4C90-B884-8DFD3F15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8FB-0916-4495-B47F-0F34BD7C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620-4CE3-47BC-AD5E-0FDFC94E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8C6-878A-4B00-B89A-AD5DFDC9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161F-0548-49C2-969D-FD1B6FDC4EEA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8DB6-23F2-49B9-A026-B728AF950084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2743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Cum se numește </a:t>
            </a:r>
            <a:r>
              <a:rPr b="1" lang="en-US" sz="3800" spc="-1" strike="noStrike">
                <a:solidFill>
                  <a:srgbClr val="48596a"/>
                </a:solidFill>
                <a:latin typeface="Verdana"/>
              </a:rPr>
              <a:t>“</a:t>
            </a: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țara</a:t>
            </a:r>
            <a:r>
              <a:rPr b="1" lang="en-US" sz="3800" spc="-1" strike="noStrike">
                <a:solidFill>
                  <a:srgbClr val="48596a"/>
                </a:solidFill>
                <a:latin typeface="Verdana"/>
              </a:rPr>
              <a:t>”</a:t>
            </a: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 tuturor posibilităților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36576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Cum ar fi viaţa noastră fără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m putem utiliza internetul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 ce ajut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 internetul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m putem realiza si noi o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gina de prezentare pe internet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 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ştim acum despre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 şi aplicaţiile acestui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7" descr="internet"/>
          <p:cNvPicPr/>
          <p:nvPr/>
        </p:nvPicPr>
        <p:blipFill>
          <a:blip r:embed="rId1"/>
          <a:stretch/>
        </p:blipFill>
        <p:spPr>
          <a:xfrm>
            <a:off x="2133720" y="2585880"/>
            <a:ext cx="419076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Enumeraţi 7 avantaje ale utilizarii internetului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umera</a:t>
            </a: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ţi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rowsere web</a:t>
            </a: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00000"/>
                </a:solidFill>
                <a:latin typeface="Verdana"/>
              </a:rPr>
              <a:t>Ce tip de rețea este Internet-ul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-faceți o descriere în funcție de criteriile de clasificare cunosc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5:53:15Z</dcterms:created>
  <dc:creator>Luigi</dc:creator>
  <dc:description/>
  <dc:language>en-US</dc:language>
  <cp:lastModifiedBy>user</cp:lastModifiedBy>
  <dcterms:modified xsi:type="dcterms:W3CDTF">2010-02-28T08:04:57Z</dcterms:modified>
  <cp:revision>17</cp:revision>
  <dc:subject/>
  <dc:title>Evaluare initiala</dc:title>
</cp:coreProperties>
</file>