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5B57-10B6-42EF-A722-9061BE465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C9D9-0ECF-480C-91D9-01C559D6C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99C2-5BCC-4F7F-BC7B-15A3FED88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D46B-6E86-4688-8490-9FA04C92F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ED07-D3E3-4970-9828-D7AA9932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FC5A-B52C-4238-9F89-3B11BC123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257-68BF-4307-BCBF-4034F367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FC5-D95F-45D7-8B78-2E793887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817-C108-4ECD-AF32-C37A6EE0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635-98A9-433C-84E6-E9A2C265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0040-7CE4-4BD2-808B-8759A42F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A9D0-FB7C-4AD9-A67B-DE4A6794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D212-5CB3-49E0-AAF2-48C6F614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63FE-EFD7-4737-BEF0-5DD30D0F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D67C-CE65-4E25-BD58-4554AED7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B963-7B18-4984-BD06-0562CED7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1D45-5FF1-4FFD-BF70-F8387112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832-D179-4DE7-81EF-E02D3B29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3738-7F3F-45F9-87E9-E72CD880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2C96-153D-48AA-8B64-C13669E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A5A6-6523-471D-B3BF-4FC20DE5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9973-9EE2-49A4-B539-6D576718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40D5-189E-497C-8F16-C38EFBC7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5A5-AAE8-49AA-A060-A97F6C36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0F8-D5FE-4865-BDF2-BE1FBD6C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50F-30AB-4EF3-8F0F-E836B9F8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DA3-1FFE-4831-9C56-3F323D97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8F3-178F-4763-A445-CC39232E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F30-C42D-4679-89D4-3D2AB88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6DC-DE5D-450B-B1DD-CAB37BA4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246C-7065-4CFD-A6BC-F8D067A7C1FD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CBC2-6115-4B46-94D0-9A82FF0B8397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Cum se numește 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“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țara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”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 tuturor posibilitățilo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3657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Cum ar fi viaţa noastră fără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utiliza internetul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ce aju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 internetu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realiza si noi o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gina de prezentare pe interne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 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ştim acum despre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 şi aplicaţiile acestui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7" descr="internet"/>
          <p:cNvPicPr/>
          <p:nvPr/>
        </p:nvPicPr>
        <p:blipFill>
          <a:blip r:embed="rId1"/>
          <a:stretch/>
        </p:blipFill>
        <p:spPr>
          <a:xfrm>
            <a:off x="2133720" y="2585880"/>
            <a:ext cx="419076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Enumeraţi 7 avantaje ale utilizarii internetului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umera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ţi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rowsere web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Verdana"/>
              </a:rPr>
              <a:t>Ce tip de rețea este Internet-ul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-faceți o descriere în funcție de criteriile de clasificare cunosc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3:15Z</dcterms:created>
  <dc:creator>Luigi</dc:creator>
  <dc:description/>
  <dc:language>en-US</dc:language>
  <cp:lastModifiedBy>user</cp:lastModifiedBy>
  <dcterms:modified xsi:type="dcterms:W3CDTF">2010-02-28T08:04:57Z</dcterms:modified>
  <cp:revision>17</cp:revision>
  <dc:subject/>
  <dc:title>Evaluare initiala</dc:title>
</cp:coreProperties>
</file>